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5C4-DB2C-45E6-84B1-EA98103E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F54-E9EC-4223-B3DF-80F7EE29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19A-FC24-413E-AFF6-A78AF7D6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04D-76EF-4D5D-9E26-8736FF3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2AF-6BA2-437D-A52F-DE4F500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DFC-9F84-4823-B91E-0AD2060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3E5-EF08-4884-9CED-7E72342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495-56D3-41FB-BB0A-326CDBC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3D0-91B0-4673-BB8B-EF9D2BFE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ACA-A1C2-4A5F-B041-9737F77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81B-8D0F-4594-8414-8BB6203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D5C-3534-432D-B8A0-6EEA285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7212-7C9D-4514-8DF7-1334AF1322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07920" y="-285840"/>
            <a:ext cx="732816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7228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then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Rectangle 13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4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8" descr=""/>
          <p:cNvPicPr/>
          <p:nvPr/>
        </p:nvPicPr>
        <p:blipFill>
          <a:blip r:embed="rId1"/>
          <a:stretch/>
        </p:blipFill>
        <p:spPr>
          <a:xfrm>
            <a:off x="2487600" y="500040"/>
            <a:ext cx="4046400" cy="1116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304920" y="1647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09480" y="1868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LOVE college football!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 and Applied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09480" y="5907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year with CB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847800" y="-139680"/>
            <a:ext cx="746100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NH, born in Phill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9480" y="1676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Philadelphia Univers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31240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ives locally with her husband and 2 ki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One just started @ Taman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One in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grade at Jamis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ves horseback riding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2438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sists in all Math clas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0948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en with CB for 7 years, after career in advertising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you for the kind of math that you will do in your everyday li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09480" y="5068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eed this to graduate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Rectangle 6" descr=""/>
          <p:cNvPicPr/>
          <p:nvPr/>
        </p:nvPicPr>
        <p:blipFill>
          <a:blip r:embed="rId1"/>
          <a:stretch/>
        </p:blipFill>
        <p:spPr>
          <a:xfrm>
            <a:off x="30240" y="165240"/>
            <a:ext cx="8974080" cy="987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hou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vest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 (lots of handouts!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 (will keep in class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 (scientific, 4 function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Rectangle 8" descr=""/>
          <p:cNvPicPr/>
          <p:nvPr/>
        </p:nvPicPr>
        <p:blipFill>
          <a:blip r:embed="rId2"/>
          <a:stretch/>
        </p:blipFill>
        <p:spPr>
          <a:xfrm>
            <a:off x="2560680" y="308448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1905120" y="423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905120" y="49165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905120" y="560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Rectangle 13" descr=""/>
          <p:cNvPicPr/>
          <p:nvPr/>
        </p:nvPicPr>
        <p:blipFill>
          <a:blip r:embed="rId2"/>
          <a:stretch/>
        </p:blipFill>
        <p:spPr>
          <a:xfrm>
            <a:off x="2719440" y="3468600"/>
            <a:ext cx="3784680" cy="111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27432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27432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27432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8-09-02T14:45:05Z</dcterms:modified>
  <cp:revision>25</cp:revision>
  <dc:subject/>
  <dc:title>Slide 1</dc:title>
</cp:coreProperties>
</file>